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20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.jpeg" ContentType="image/jpeg"/>
  <Override PartName="/ppt/media/image15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9F7-4380-461F-B501-E2DFC49A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B2D-54E7-4AFA-91D4-8ACBA42F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D3C-1783-4378-8C1A-2F2A2D35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3587-3C35-48A6-980D-239856D6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B175-78CC-4025-959A-29A14055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D077-36BF-4C23-A449-1AF62500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4781-7403-4F44-8DB0-95251387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09FB-F895-4D63-B071-115F510A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2136-2306-43DB-BD2D-66BA4796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9D5D-71D7-4490-A0DE-89A4D768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44B4-BD40-4868-B4B5-A497331A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5DF-72DC-41E1-816C-6533CEE5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4AF3-03FC-4BE7-A614-55CA9A00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D56D-395E-4C30-9644-290A56CF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9839-57FB-419F-80C9-DFCF6955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9C02-6BC9-4F05-AB33-82B6E6C1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126E-35F7-4F33-8F9C-62D04B85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05A-EBC9-4031-A803-8BA6D966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B85-2696-4E7C-8E12-DAAAC765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9DB-DECE-42D1-A97B-20D4A2CE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338-7895-42BF-9809-B80C8387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B363-74A9-47DC-9D19-10F15B6D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ECA-E3B6-4880-9AC3-C56D4072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CEA-4800-4188-9D67-497E7FE3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785A-F130-46A6-8EA5-C4B64B7041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8F35-69B2-49A6-949F-DF1C173ADC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atri3jl.edu.glogster.com/edit/importantusesofmath/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.glogster.com/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th Using Glogster ED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son 1:  Important Uses of Ma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son 2:  Ang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180792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or Knowledge for Geomet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uent angles, vertical angles, adjacent angles, complementary angles, and supplementary ang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types of triangles by 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triangles by their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 third angle of a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ubTriangle"/>
          <p:cNvSpPr/>
          <p:nvPr/>
        </p:nvSpPr>
        <p:spPr>
          <a:xfrm>
            <a:off x="7696080" y="533520"/>
            <a:ext cx="609840" cy="53316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gin by making a comic strip using Chogger to define vocabular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cho.gr/aI2U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create a new glog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embed their comic into their glog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86400" y="4952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for Understand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visit three Websites (linked within the teacher glog) to test their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aaamath.com/geo318x3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aaamath.com/geo318x2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aaamath.com/geo612x5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gives quiz using clickers from Power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2189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Tas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use a flip camera to capture 10 items in or around school that have angles or lines in them (watch example vide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then upload pictures to their glog page and use text to explain their relationship to Geome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19920" y="4800600"/>
            <a:ext cx="2057400" cy="1373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13716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then need to share their glogs with classm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s can add comments and provide feedback to their pe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2205000" cy="1569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43000" y="4724280"/>
            <a:ext cx="18367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esson 1:  Important Uses of Mat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og page designed by tea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patri3jl.edu.glogster.com/edit/importantusesofmath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1065240" cy="1819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477120" y="4038480"/>
            <a:ext cx="14079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or Technology Prerequisites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www.edu.glogst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Glogster ED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will present a demo on how to use Glogster ED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will need to add students to their account by adding a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:  Students must be at least 13 years old or have consent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18241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sson begins with a WebQuest which has been placed into a glog page. It introduces th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/asking students for he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s: Help students brainstorm real-world examples of how students and adults use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05520" y="152280"/>
            <a:ext cx="1218960" cy="1179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876920" y="4724280"/>
            <a:ext cx="17524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 are linked into glog page to provide examples of how math is used in the real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math in sports and math in 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students time to explore on Internet, book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96840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144792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Tas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s to the students what they have to complete for their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for pres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pecific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s (im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s (School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with explanation of how their examples use m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77120" y="2666880"/>
            <a:ext cx="1803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then need to share their glogs with classm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s can add comments and provide feedback to their pe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to brainstorm ways Geometry is used or seen in our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 Teacher/students feedback through instant messa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81480" y="0"/>
            <a:ext cx="20574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sson 2:  Ang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og page designed by tea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patri3jl.edu.glogster.com/edit/angles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4114800"/>
            <a:ext cx="2355840" cy="191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90720" y="4952880"/>
            <a:ext cx="183996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or Technology Prerequisi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PowerPoint on Angl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edu.glogst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Glog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will present a demo on how to use Chogger (create comic strip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chogger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need an account (f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flip camera (upload pict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quiz (click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7724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943600" y="5257800"/>
            <a:ext cx="587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21:54:20Z</dcterms:created>
  <dc:creator>Heidi Patrick</dc:creator>
  <dc:description/>
  <dc:language>en-US</dc:language>
  <cp:lastModifiedBy>Heidi Patrick</cp:lastModifiedBy>
  <dcterms:modified xsi:type="dcterms:W3CDTF">2011-04-28T01:24:27Z</dcterms:modified>
  <cp:revision>10</cp:revision>
  <dc:subject/>
  <dc:title>Math with Glogster</dc:title>
</cp:coreProperties>
</file>